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CF1C-2A12-4782-9886-49D78EDE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7FD-5546-4C65-AD7E-CE06859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F69-6B94-439B-A34A-E8CAB85D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76E-EE98-4056-A53D-5C916170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085-B087-46D8-BA87-17C0DB14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D26-B3C0-4600-9ADE-60DF0468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625D-2175-406A-91D1-5154773D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1C45-3CF2-4A25-A581-E9CC692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AE6-6806-496F-BB65-D88BFC7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C45-E2BE-45F3-A096-85A15111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BA9-9008-4858-A2F8-D299AF6E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DF8-B71F-4ED7-BD3A-F40E3A8D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97D-6B69-4D4C-99CD-7EB815CF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285800">
            <a:off x="3347280" y="270828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hi so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21164400">
            <a:off x="539280" y="907560"/>
            <a:ext cx="5400720" cy="30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Gloria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1407000">
            <a:off x="1060200" y="1181160"/>
            <a:ext cx="3803400" cy="38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79640" y="472428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o nata il 2 Marzo 19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19986600">
            <a:off x="395640" y="83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at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582480"/>
            <a:ext cx="3600720" cy="274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3860640"/>
            <a:ext cx="34830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4155840" cy="311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627280" y="1413000"/>
            <a:ext cx="2089080" cy="19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5472360" cy="2894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4005360"/>
            <a:ext cx="547380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00720" y="3284640"/>
            <a:ext cx="2195640" cy="314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24360" y="692280"/>
            <a:ext cx="3240360" cy="222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886200">
            <a:off x="1115640" y="371592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 vissuto in compagnia dell’Et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25480" y="2413080"/>
            <a:ext cx="633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OGGI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97000"/>
            <a:ext cx="70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ruisco il mio futu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52578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256360" cy="3485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20739600">
            <a:off x="625320" y="763200"/>
            <a:ext cx="56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Studi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rot="20448600">
            <a:off x="395640" y="69192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 lavo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64000" y="620640"/>
            <a:ext cx="3213000" cy="361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2360" y="43657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 due splendidi bambi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 rot="20350800">
            <a:off x="324000" y="4723920"/>
            <a:ext cx="1498320" cy="213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300720" y="4941720"/>
            <a:ext cx="2411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21:22:43Z</dcterms:created>
  <dc:creator>Gloria</dc:creator>
  <dc:description/>
  <dc:language>en-US</dc:language>
  <cp:lastModifiedBy>Gloria</cp:lastModifiedBy>
  <dcterms:modified xsi:type="dcterms:W3CDTF">2012-03-13T21:48:28Z</dcterms:modified>
  <cp:revision>4</cp:revision>
  <dc:subject/>
  <dc:title>Diapositiva 1</dc:title>
</cp:coreProperties>
</file>